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E266F-C957-4E51-ABD0-4E28B9F7F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FC6E4-B5E7-478B-9FEF-9B9BC77F2F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hydroponicsequipment.co/plant-clon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20A52-B33E-4F3C-A32F-1855603ED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xtremepapers.com/revision/gcse/biology/reproduction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3F0CE-5FF9-4DDE-8B76-D569B334FD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2geneticswikib.wikispaces.com/Sexual+and+Asexual+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hortchat.com/info/propagating-kalancho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CC707-8C77-4798-8A37-14E11B5AC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2A178-89D3-4F31-8C07-C58C5A169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users.rcn.com/jkimball.ma.ultranet/BiologyPages/A/AsexualReproduction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ar tree image from: http://www.theresiliencyinstitute.net/fruit-tree-graft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’re interested, a lot of information about growing apples &amp; why grafting is used he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hardyfruittrees.ca/tutorials/2014/01/16/why-are-fruit-trees-graf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86AD-C61D-4EE3-9013-410765A46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D310-6A6D-4FCF-AD36-83D4C87E8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4C7E-ECE2-430C-BBE9-D9D17E7E4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38EA-F549-4EF2-AFF7-B40A026A5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F73C-06D2-4607-8BE5-65C9488FA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138E-8308-4ECC-974A-CDC84E2C9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42BB-A495-4192-95EE-CA879995F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685F-F2EE-4AD4-9730-E0F2D4C86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A952-BDBE-4E77-98E0-C75CCCF0C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767C-2DA5-488B-8643-DA719E951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CFF8-B06F-4A89-ABE9-D75B5E6B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0294-CD9C-4FB5-9D25-AB4746512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2131E-3922-48F6-B3F2-3AB173F7C3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sexual Reproduction in Seed 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exual Rep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d plants reproduce both sexually &amp; asex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ts use structures on stems, leaves, or roots to reproduce asex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plants grow through mitosis &amp; cell division of existing cells, so offspring are cl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asexual_reproduction_in_potato_plants"/>
          <p:cNvPicPr/>
          <p:nvPr/>
        </p:nvPicPr>
        <p:blipFill>
          <a:blip r:embed="rId1"/>
          <a:stretch/>
        </p:blipFill>
        <p:spPr>
          <a:xfrm>
            <a:off x="693720" y="609480"/>
            <a:ext cx="77551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Screen_shot_2011-11-30_at_1"/>
          <p:cNvPicPr/>
          <p:nvPr/>
        </p:nvPicPr>
        <p:blipFill>
          <a:blip r:embed="rId1"/>
          <a:stretch/>
        </p:blipFill>
        <p:spPr>
          <a:xfrm>
            <a:off x="685800" y="1554120"/>
            <a:ext cx="777240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 of Asexua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one parent plant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s less energy &amp;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parental traits are well-suited to environment, offspring will also be well-su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tlets survive better than seedlings from sexual re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advantages of Asexua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k of genetic diversit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lead to entire population being wiped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 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m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utting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ed to produce new pl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raf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branches of trees onto other tr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issue cul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ed to reproduce orchid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Content Placeholder 2" descr="300x200xprop-kalanchoe-300x200.jpg.pagespeed.ic.TT8zDQ4tvU.jpg"/>
          <p:cNvPicPr/>
          <p:nvPr/>
        </p:nvPicPr>
        <p:blipFill>
          <a:blip r:embed="rId1"/>
          <a:srcRect l="19136" t="0" r="19136" b="0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Content Placeholder 5" descr="Grafting.gif"/>
          <p:cNvPicPr/>
          <p:nvPr/>
        </p:nvPicPr>
        <p:blipFill>
          <a:blip r:embed="rId1"/>
          <a:srcRect l="0" t="-18691" r="0" b="-18691"/>
          <a:stretch/>
        </p:blipFill>
        <p:spPr>
          <a:xfrm>
            <a:off x="611280" y="549360"/>
            <a:ext cx="3884400" cy="554652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6" descr="dwarf-pear-tree-2-types.jpg"/>
          <p:cNvPicPr/>
          <p:nvPr/>
        </p:nvPicPr>
        <p:blipFill>
          <a:blip r:embed="rId2"/>
          <a:srcRect l="15610" t="0" r="15610" b="0"/>
          <a:stretch/>
        </p:blipFill>
        <p:spPr>
          <a:xfrm>
            <a:off x="4643280" y="549360"/>
            <a:ext cx="3814920" cy="55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5T11:15:55Z</dcterms:created>
  <dc:creator>rubina khan</dc:creator>
  <dc:description/>
  <dc:language>en-US</dc:language>
  <cp:lastModifiedBy>rubina khan</cp:lastModifiedBy>
  <dcterms:modified xsi:type="dcterms:W3CDTF">2016-11-28T03:37:47Z</dcterms:modified>
  <cp:revision>47</cp:revision>
  <dc:subject/>
  <dc:title>Succession</dc:title>
</cp:coreProperties>
</file>